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421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420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492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762000" y="0"/>
            <a:ext cx="2878200" cy="4492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73160" y="674640"/>
            <a:ext cx="449568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1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63480" y="4269960"/>
            <a:ext cx="5315040" cy="4046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8540640"/>
            <a:ext cx="2878200" cy="4492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762000" y="8540640"/>
            <a:ext cx="2878200" cy="4492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8206481A-8263-45DF-810B-6C1F7FD47C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073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63480" y="4269960"/>
            <a:ext cx="5315040" cy="4046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448 a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73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63480" y="4269960"/>
            <a:ext cx="5315040" cy="4046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448 a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73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3480" y="4269960"/>
            <a:ext cx="5315040" cy="4046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448 a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73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3480" y="4269960"/>
            <a:ext cx="5315040" cy="4046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448 a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073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3480" y="4269960"/>
            <a:ext cx="5315040" cy="4046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448 a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73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63480" y="4269960"/>
            <a:ext cx="5315040" cy="4046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448 a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8EA-D8DD-41BA-B1FA-123B574F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051-8051-4231-9D21-47D2892D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058-B5D1-4311-9A4C-7C2AA9DB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AE2-3169-4B66-8CCF-C148C251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42920" y="274680"/>
            <a:ext cx="6049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53D-0620-4F78-9FE2-E7F22BA9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304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092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304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480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37C-60B1-4972-B478-A4547589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E41-CD23-4A0D-830B-F2E3F2B9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84F-5EF8-4988-9BAE-CD6AB6AC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42920" y="274680"/>
            <a:ext cx="6049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C21-EAC0-49A2-ACD4-7867EE14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1DB-1321-4051-BB10-86BFA90D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FC5-E93C-4E63-A7FF-8006F683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194-9FE9-4520-B368-3AF5317F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664000" cy="63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050920" y="765000"/>
            <a:ext cx="684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65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979280" y="6453000"/>
            <a:ext cx="6264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388000" y="6453000"/>
            <a:ext cx="57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890B-AD5F-4CCC-8A23-DC4FA02351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17928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03480"/>
            <a:ext cx="8604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133360" y="404640"/>
            <a:ext cx="64767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1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725400"/>
            <a:ext cx="0" cy="25513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908000" y="5336640"/>
            <a:ext cx="0" cy="1521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2843280" cy="2274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3197160"/>
            <a:ext cx="2808360" cy="2247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149640" y="3376080"/>
            <a:ext cx="54468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AN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echanical Worksh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ackward Endcap Calorimeter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133360" y="404640"/>
            <a:ext cx="64767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David Rodríguez Piñeiro</a:t>
            </a:r>
            <a:br>
              <a:rPr sz="2000"/>
            </a:b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GSI Darmstadt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PANDA Mechanical Workshop</a:t>
            </a:r>
            <a:br>
              <a:rPr sz="2000"/>
            </a:b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GSI</a:t>
            </a:r>
            <a:br>
              <a:rPr sz="2000"/>
            </a:b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02. 04. 2009</a:t>
            </a:r>
            <a:endParaRPr b="1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052640"/>
            <a:ext cx="604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Interaction with the STT (II.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5516640"/>
            <a:ext cx="532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557360"/>
          <a:ext cx="280836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28083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1700280"/>
          <a:ext cx="1976400" cy="16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700280"/>
                    <a:ext cx="1976400" cy="1657440"/>
                  </a:xfrm>
                  <a:prstGeom prst="rect">
                    <a:avLst/>
                  </a:prstGeom>
                  <a:ln w="158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356000" y="4941720"/>
            <a:ext cx="2376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rbon Fibre T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ulfils the STT Piping requirements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8000" y="3500280"/>
          <a:ext cx="3645000" cy="275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3500280"/>
                    <a:ext cx="364500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067280" y="3573360"/>
          <a:ext cx="2590560" cy="91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3573360"/>
                    <a:ext cx="25905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7164360" y="1197000"/>
            <a:ext cx="197964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 &amp;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Interaction S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M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Beam P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24A-F8C6-4F7A-A937-3D6EC3DF66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1052640"/>
            <a:ext cx="604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Interaction with the STT 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5516640"/>
            <a:ext cx="532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55640" y="1916280"/>
          <a:ext cx="55418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55418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164360" y="1197000"/>
            <a:ext cx="197964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 &amp;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Interaction S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M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Beam P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34A-210D-48DD-ACBF-07219A346DB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052640"/>
            <a:ext cx="56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Interaction with the M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6560" y="1773360"/>
            <a:ext cx="2449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429000"/>
            <a:ext cx="410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Beam Pipe-BW End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54.82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m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1197000"/>
            <a:ext cx="197964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 &amp;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S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Interaction M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Beam P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66560" y="1989000"/>
          <a:ext cx="3171960" cy="32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989000"/>
                    <a:ext cx="317196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FA2-6FF1-46A3-9D4D-45808558C3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052640"/>
            <a:ext cx="633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Interaction with the Beam Pipe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5084640"/>
            <a:ext cx="2592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ximum Angle from th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17,17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4360" y="1197000"/>
            <a:ext cx="197964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 &amp;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S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M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Interaction Beam P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5157720"/>
            <a:ext cx="32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rst Crystal start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183,50 mm (z=-5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5280" y="1844640"/>
          <a:ext cx="288144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2881440" cy="2886120"/>
                  </a:xfrm>
                  <a:prstGeom prst="rect">
                    <a:avLst/>
                  </a:prstGeom>
                  <a:ln w="158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635280" y="1844640"/>
          <a:ext cx="3095640" cy="287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1844640"/>
                    <a:ext cx="3095640" cy="2874960"/>
                  </a:xfrm>
                  <a:prstGeom prst="rect">
                    <a:avLst/>
                  </a:prstGeom>
                  <a:ln w="158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485-BC1D-42DA-A663-B796282025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052640"/>
            <a:ext cx="633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Interaction with the Beam Pipe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522936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am Pipe Flang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100 m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th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4360" y="1197000"/>
            <a:ext cx="197964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 &amp;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S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M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Interaction Beam P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258920" y="1706400"/>
          <a:ext cx="47433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6400"/>
                    <a:ext cx="4743360" cy="3276720"/>
                  </a:xfrm>
                  <a:prstGeom prst="rect">
                    <a:avLst/>
                  </a:prstGeom>
                  <a:ln w="158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C6A-ACA2-48A8-A87F-AA1431CCEE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3230640" y="2637000"/>
            <a:ext cx="30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cc"/>
                </a:solidFill>
                <a:latin typeface="Verdana"/>
              </a:rPr>
              <a:t>3.– Next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473-56B5-48C5-894C-49DF3AE9DB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052640"/>
            <a:ext cx="633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Fixing in the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537372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ld the Endcap in 4 or 8 Points in the Backward DIRC Support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03280" y="1628640"/>
          <a:ext cx="3978360" cy="34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397836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7164360" y="1197000"/>
            <a:ext cx="197964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2.– Geometry &amp;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Fixing the Assemb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2F4-3C61-4671-AA73-E9735442A5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1268280"/>
            <a:ext cx="35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1773360"/>
            <a:ext cx="6696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Geometry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utting in 4 sides (up-down-left-r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pace for the STT (Cabling &amp; Piping)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pace for the MVD (Cabling &amp; Piping)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Discus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Angle for the Beam Cone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7,17º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Fixing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 the Backward DIRC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1052640"/>
            <a:ext cx="42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1197000"/>
            <a:ext cx="1979640" cy="23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2.– Geometry &amp;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F72-D406-4F00-B511-48186C366EB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266920" y="3573360"/>
            <a:ext cx="597708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Verdana"/>
              </a:rPr>
              <a:t>Personal 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.rodriguezpineiro@</a:t>
            </a:r>
            <a:r>
              <a:rPr b="0" lang="en-GB" sz="2000" spc="-1" strike="noStrike">
                <a:solidFill>
                  <a:srgbClr val="0000cc"/>
                </a:solidFill>
                <a:latin typeface="Verdana"/>
              </a:rPr>
              <a:t>gs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l: +49 (0) 615971/16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-panda.</a:t>
            </a:r>
            <a:r>
              <a:rPr b="0" lang="en-GB" sz="2000" spc="-1" strike="noStrike">
                <a:solidFill>
                  <a:srgbClr val="0000cc"/>
                </a:solidFill>
                <a:latin typeface="Verdana"/>
              </a:rPr>
              <a:t>gs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134136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A57-9720-4AEF-9E07-7DB3674675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197000"/>
            <a:ext cx="5616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Verdana"/>
              </a:rPr>
              <a:t>1.–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Boundary Condi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Dimen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Verdana"/>
              </a:rPr>
              <a:t>2.– Geometry &amp; Set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Geome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Interaction with ST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Interaction with MV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Interaction with Beam Pi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Verdana"/>
              </a:rPr>
              <a:t>3.- Next Ste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Fixing in the Assemb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Verdana"/>
              </a:rPr>
              <a:t>4.- 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DC1-3C1B-4E22-98F4-EBF52E13B0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00000" y="1628640"/>
          <a:ext cx="4824360" cy="1800360"/>
        </p:xfrm>
        <a:graphic>
          <a:graphicData uri="http://schemas.openxmlformats.org/drawingml/2006/table">
            <a:tbl>
              <a:tblPr/>
              <a:tblGrid>
                <a:gridCol w="3600360"/>
                <a:gridCol w="1224000"/>
              </a:tblGrid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ance Target-BW End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imum Outer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8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mum Inner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052640"/>
            <a:ext cx="51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1197000"/>
            <a:ext cx="180036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Boundary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Dimen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03280" y="3645000"/>
          <a:ext cx="379728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645000"/>
                    <a:ext cx="3797280" cy="2735280"/>
                  </a:xfrm>
                  <a:prstGeom prst="rect">
                    <a:avLst/>
                  </a:prstGeom>
                  <a:ln w="1908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2CB-D14D-4CDC-B91D-41BC681BC5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2565360"/>
          <a:ext cx="6408720" cy="3744720"/>
        </p:xfrm>
        <a:graphic>
          <a:graphicData uri="http://schemas.openxmlformats.org/drawingml/2006/table">
            <a:tbl>
              <a:tblPr/>
              <a:tblGrid>
                <a:gridCol w="2822400"/>
                <a:gridCol w="3586320"/>
              </a:tblGrid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ystals Dimen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aight Geome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 m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,4x24,4 m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barrel smallest back face cryst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164360" y="1197000"/>
            <a:ext cx="180036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Boundary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Dimen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42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348000" y="4365720"/>
          <a:ext cx="28083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365720"/>
                    <a:ext cx="28083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24000" y="5373720"/>
            <a:ext cx="446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700280"/>
            <a:ext cx="583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Straight Geometry: </a:t>
            </a:r>
            <a:r>
              <a:rPr b="1" lang="de-DE" sz="2100" spc="-1" strike="noStrike">
                <a:solidFill>
                  <a:srgbClr val="000000"/>
                </a:solidFill>
                <a:latin typeface="Verdana"/>
              </a:rPr>
              <a:t>0,6284 st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61B-9110-4955-BA1C-78F4FA50DC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2158920" y="2637000"/>
            <a:ext cx="51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cc"/>
                </a:solidFill>
                <a:latin typeface="Verdana"/>
              </a:rPr>
              <a:t>2.– Geometry &amp; 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649-B158-454F-B9BF-5DC4BFE0F0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611280" y="1496880"/>
          <a:ext cx="1887480" cy="18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96880"/>
                    <a:ext cx="1887480" cy="18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052640"/>
            <a:ext cx="604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1197000"/>
            <a:ext cx="197964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 &amp;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S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M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Beam P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5516640"/>
            <a:ext cx="532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38760" y="1712880"/>
          <a:ext cx="167472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1712880"/>
                    <a:ext cx="167472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692360" y="3349800"/>
          <a:ext cx="3240000" cy="30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349800"/>
                    <a:ext cx="324000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4932360" y="4508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4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ry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5640" y="1773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424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1773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488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A3F-EB03-436D-8A43-202B884A55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052640"/>
            <a:ext cx="604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Interaction with the STT (I.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1916280"/>
          <a:ext cx="3179880" cy="36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317988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780000" y="1844640"/>
          <a:ext cx="3063600" cy="323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844640"/>
                    <a:ext cx="306360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826920" y="5516640"/>
            <a:ext cx="532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53737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ing: Sam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1197000"/>
            <a:ext cx="197964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 &amp;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Interaction S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M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Beam P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3C3-9EA7-4046-AA7F-D7EEC14FFA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052640"/>
            <a:ext cx="604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Interaction with the STT (I.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516640"/>
            <a:ext cx="532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4941720"/>
            <a:ext cx="252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rbon Fibre T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ulfils the STT Cabling requirements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3500280"/>
          <a:ext cx="3656160" cy="29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500280"/>
                    <a:ext cx="365616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84360" y="1484280"/>
          <a:ext cx="6126120" cy="19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484280"/>
                    <a:ext cx="61261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716360" y="3500280"/>
          <a:ext cx="1825560" cy="11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3500280"/>
                    <a:ext cx="1825560" cy="1101960"/>
                  </a:xfrm>
                  <a:prstGeom prst="rect">
                    <a:avLst/>
                  </a:prstGeom>
                  <a:ln w="158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7164360" y="1197000"/>
            <a:ext cx="197964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 &amp;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Interaction S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M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Beam P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B67-6BFC-414B-BC55-E26DBB16D2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052640"/>
            <a:ext cx="604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Interaction with the STT (II.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5516640"/>
            <a:ext cx="532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4360" y="1700280"/>
          <a:ext cx="2925720" cy="32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292572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492360" y="1916280"/>
          <a:ext cx="3114720" cy="30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1916280"/>
                    <a:ext cx="3114720" cy="30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755640" y="53737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fferen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1197000"/>
            <a:ext cx="197964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 &amp;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Interaction S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M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teraction Beam P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4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Mechanical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7DC-0001-48AF-ACE4-204DA71BC3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12:45:43Z</dcterms:created>
  <dc:creator>Bernd Lewandowski</dc:creator>
  <dc:description/>
  <dc:language>en-US</dc:language>
  <cp:lastModifiedBy>drodrig</cp:lastModifiedBy>
  <dcterms:modified xsi:type="dcterms:W3CDTF">2009-04-06T13:47:25Z</dcterms:modified>
  <cp:revision>238</cp:revision>
  <dc:subject/>
  <dc:title>PANDA Infra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9401615</vt:r8>
  </property>
  <property fmtid="{D5CDD505-2E9C-101B-9397-08002B2CF9AE}" pid="3" name="_AuthorEmail">
    <vt:lpwstr>D.RodriguezPineiro@gsi.de</vt:lpwstr>
  </property>
  <property fmtid="{D5CDD505-2E9C-101B-9397-08002B2CF9AE}" pid="4" name="_AuthorEmailDisplayName">
    <vt:lpwstr>Rodriguez Pineiro, David</vt:lpwstr>
  </property>
  <property fmtid="{D5CDD505-2E9C-101B-9397-08002B2CF9AE}" pid="5" name="_EmailSubject">
    <vt:lpwstr>HELP!</vt:lpwstr>
  </property>
</Properties>
</file>