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E59-F527-43A3-ABDA-246AE601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4C3-BC87-4BE4-A0D5-53F2AC59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CF7-EE97-4B51-B08B-63A27F66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1FC-154B-4574-8645-1FBC2E3F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A25-5D41-484D-8F8D-99551339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FE3-5493-4D77-A6F9-AF1CCE3A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AB2-8E5B-4748-9EDD-B3516F8A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D63-40E7-4583-8145-93428626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790-54A0-4BBE-8E5C-CF3AF29E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B10-04A6-40AA-8785-CA79A1F9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E53-CC6D-491E-80CB-4A285C3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7C9-717F-4C6E-A024-5BB3B3DA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213C-A93F-4CD1-A3E0-5D7BD0A9C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PAN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port Beams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6093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Dutta; Patterns in Photon Detector Plane DIRC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193240" cy="4081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61960" y="2179800"/>
            <a:ext cx="24768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33560" y="2176560"/>
            <a:ext cx="72216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463760" y="2123640"/>
            <a:ext cx="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09640" y="2133720"/>
            <a:ext cx="0" cy="815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35000" y="2244600"/>
            <a:ext cx="722520" cy="5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-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409080" cy="4705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4140360" y="3068640"/>
            <a:ext cx="4316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-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81192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H="1">
            <a:off x="2095560" y="3789360"/>
            <a:ext cx="388800" cy="163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-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443720" cy="5419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19640" y="1916280"/>
            <a:ext cx="289080" cy="64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1989000"/>
            <a:ext cx="28908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-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499284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-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8595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-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6327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In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103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In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1038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In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1038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port Beams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4548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602136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ference with DI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In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103880" cy="5398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9837600">
            <a:off x="6300000" y="1699560"/>
            <a:ext cx="963720" cy="260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127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In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103880" cy="5398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9837600">
            <a:off x="6300000" y="1699560"/>
            <a:ext cx="963720" cy="260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127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In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1038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W Endcap In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1038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port Beams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602136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ference with DI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56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port Beams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16000" y="1079640"/>
            <a:ext cx="5369040" cy="431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602136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ference with DI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port Beams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14560" y="1079640"/>
            <a:ext cx="5373720" cy="4319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7640" y="602136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ference with DI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port Beams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6093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ssembly Outwards Op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7960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port Beams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6093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ssembly Outwards Op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867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port Beams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751640" cy="4124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flipV="1">
            <a:off x="5363640" y="2637000"/>
            <a:ext cx="7164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011400" y="2133360"/>
            <a:ext cx="3865680" cy="1214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6093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Shorter to Gain Som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port Beams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553080" cy="4248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47640" y="3429000"/>
            <a:ext cx="6339240" cy="16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3075120"/>
            <a:ext cx="32385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90640" y="3068640"/>
            <a:ext cx="2090880" cy="189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6093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ility of Gaining Space t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22:11:24Z</dcterms:created>
  <dc:creator>drodrig</dc:creator>
  <dc:description/>
  <dc:language>en-US</dc:language>
  <cp:lastModifiedBy>drodrig</cp:lastModifiedBy>
  <dcterms:modified xsi:type="dcterms:W3CDTF">2010-03-25T01:07:47Z</dcterms:modified>
  <cp:revision>17</cp:revision>
  <dc:subject/>
  <dc:title>PAN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14484043</vt:r8>
  </property>
  <property fmtid="{D5CDD505-2E9C-101B-9397-08002B2CF9AE}" pid="3" name="_AuthorEmail">
    <vt:lpwstr>D.RodriguezPineiro@gsi.de</vt:lpwstr>
  </property>
  <property fmtid="{D5CDD505-2E9C-101B-9397-08002B2CF9AE}" pid="4" name="_AuthorEmailDisplayName">
    <vt:lpwstr>Rodriguez Pineiro, David</vt:lpwstr>
  </property>
  <property fmtid="{D5CDD505-2E9C-101B-9397-08002B2CF9AE}" pid="5" name="_EmailSubject">
    <vt:lpwstr>HELP!</vt:lpwstr>
  </property>
</Properties>
</file>