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6421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420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492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762000" y="0"/>
            <a:ext cx="2878200" cy="4492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1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540640"/>
            <a:ext cx="2878200" cy="4492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762000" y="8540640"/>
            <a:ext cx="2878200" cy="4492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504ABFC6-EAFD-4331-9391-99E2CDD7E9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r 560+30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73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3480" y="4269960"/>
            <a:ext cx="5315040" cy="4046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r 560+30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82C-B6B5-4AEF-BF9B-A6AC1BB2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5BC-9207-4BB6-B3FC-2CC3EB82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FED-3CFF-4058-BD46-6A8C6AA5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C95-7171-4857-A5CD-94940512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42920" y="274680"/>
            <a:ext cx="6049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BDE-28FF-4C9E-9F5C-CE0ABCDB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7304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0" y="140004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7304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4800" y="3835800"/>
            <a:ext cx="27824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70D-3980-41E9-A8AE-C7326701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C46-B44E-4A98-BC0F-6A1C1C7F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7D3-6CDE-4BF4-9B39-1B862987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42920" y="274680"/>
            <a:ext cx="6049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065-E674-48BA-A466-67770CF4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705-7247-439F-9942-35BA068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83580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A4C-5A60-4F49-A4CA-1AAE006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604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400040"/>
            <a:ext cx="421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3835800"/>
            <a:ext cx="86421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8FC-0D11-4C33-90A6-C2872724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664000" cy="63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050920" y="765000"/>
            <a:ext cx="684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65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979280" y="6453000"/>
            <a:ext cx="6264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388000" y="6453000"/>
            <a:ext cx="57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76D9-1131-4FCC-B71C-8781AF48BC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250920" y="1400040"/>
            <a:ext cx="86421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17928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03480"/>
            <a:ext cx="8604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133360" y="404640"/>
            <a:ext cx="64767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1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1908000" y="725400"/>
            <a:ext cx="0" cy="25513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908000" y="5336640"/>
            <a:ext cx="0" cy="1521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843280" cy="2274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3197160"/>
            <a:ext cx="2808360" cy="2247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149640" y="3376080"/>
            <a:ext cx="54468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AN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llaboration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ackward Endcap Calorimeter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133360" y="404640"/>
            <a:ext cx="64767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David Rodríguez Piñeiro</a:t>
            </a:r>
            <a:br>
              <a:rPr sz="2000"/>
            </a:b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GSI Darmstadt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PANDA Collaboration Meeting</a:t>
            </a:r>
            <a:br>
              <a:rPr sz="2000"/>
            </a:b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GSI</a:t>
            </a:r>
            <a:br>
              <a:rPr sz="2000"/>
            </a:b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05. 03. 2009</a:t>
            </a:r>
            <a:endParaRPr b="1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052640"/>
            <a:ext cx="42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Wedge Hollow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316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dge hollow of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i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221000"/>
            <a:ext cx="251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24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76720" y="1844640"/>
          <a:ext cx="366696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44640"/>
                    <a:ext cx="366696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164360" y="1197000"/>
            <a:ext cx="19796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ner Rad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Beam Cone A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Wedge Hollow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edge Hollow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ipe Fl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BD3-C6B1-45B1-8886-314139E57D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052640"/>
            <a:ext cx="42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Wedge Hollow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11640" y="501336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4-side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42926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2 alternatives, same free sp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5013360"/>
            <a:ext cx="27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-side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448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1197000"/>
            <a:ext cx="19796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ner Rad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Beam Cone A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Wedge Hollow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Wedge Hollow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ipe Fl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6560" y="1700280"/>
          <a:ext cx="3025800" cy="24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700280"/>
                    <a:ext cx="3025800" cy="24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168800" y="1512720"/>
          <a:ext cx="2665440" cy="26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8800" y="1512720"/>
                    <a:ext cx="26654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D3D-3101-495B-B540-B26CEDA971F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052640"/>
            <a:ext cx="42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Pipe Fl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35280" y="2852640"/>
          <a:ext cx="361476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3614760" cy="3281400"/>
                  </a:xfrm>
                  <a:prstGeom prst="rect">
                    <a:avLst/>
                  </a:prstGeom>
                  <a:ln w="158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84360" y="1628640"/>
            <a:ext cx="54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nge upstream BW end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ion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0 m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1197000"/>
            <a:ext cx="19796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ner Rad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Beam Cone A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Wedge Hollow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edge Hollow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Pipe Fl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2EF-C26C-471A-A7E8-57F830BF77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4360" y="1197000"/>
            <a:ext cx="180036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1268280"/>
            <a:ext cx="35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773360"/>
            <a:ext cx="648000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Distance target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from 560 to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52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Inner Radius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rom 150 to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128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gle trompe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5,85º &lt; 15,08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30% sma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Wedg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e piece, cutting either 2 or 4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lang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t leas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0 m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81360"/>
                <a:tab algn="l" pos="215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052640"/>
            <a:ext cx="42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1C5-DBE3-4728-870E-4C952DD0BD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266920" y="3573360"/>
            <a:ext cx="597708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Verdana"/>
              </a:rPr>
              <a:t>Personal 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.rodriguezpineiro@</a:t>
            </a:r>
            <a:r>
              <a:rPr b="0" lang="en-GB" sz="2000" spc="-1" strike="noStrike">
                <a:solidFill>
                  <a:srgbClr val="0000cc"/>
                </a:solidFill>
                <a:latin typeface="Verdana"/>
              </a:rPr>
              <a:t>gs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l: +49 (0) 6159171/1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</a:t>
            </a:r>
            <a:r>
              <a:rPr b="0" lang="en-GB" sz="2000" spc="-1" strike="noStrike">
                <a:solidFill>
                  <a:srgbClr val="0000cc"/>
                </a:solidFill>
                <a:latin typeface="Verdana"/>
              </a:rPr>
              <a:t>gs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134136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BF0-4D97-4162-9E89-9ECD3FC1F3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920" y="1197000"/>
            <a:ext cx="5616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Verdana"/>
              </a:rPr>
              <a:t>1.–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Boundary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Dimen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Verdana"/>
              </a:rPr>
              <a:t>2.– Geome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Distance to the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Inner Radi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Beam Cone Ang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Wedge Ho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Pipe fl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Verdana"/>
              </a:rPr>
              <a:t>3.- Summ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C00-8EBC-4E2B-A50F-68070CA626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628640"/>
          <a:ext cx="4824360" cy="1800360"/>
        </p:xfrm>
        <a:graphic>
          <a:graphicData uri="http://schemas.openxmlformats.org/drawingml/2006/table">
            <a:tbl>
              <a:tblPr/>
              <a:tblGrid>
                <a:gridCol w="3600360"/>
                <a:gridCol w="1224000"/>
              </a:tblGrid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ance Target-BW End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imum Outer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8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mum Inner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052640"/>
            <a:ext cx="51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1197000"/>
            <a:ext cx="180036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Boundary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Dimen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42920" y="3645000"/>
          <a:ext cx="379728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645000"/>
                    <a:ext cx="3797280" cy="2735280"/>
                  </a:xfrm>
                  <a:prstGeom prst="rect">
                    <a:avLst/>
                  </a:prstGeom>
                  <a:ln w="1908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7F3-D25E-4FF8-B84D-50FCB64A49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2565360"/>
          <a:ext cx="6408720" cy="3744720"/>
        </p:xfrm>
        <a:graphic>
          <a:graphicData uri="http://schemas.openxmlformats.org/drawingml/2006/table">
            <a:tbl>
              <a:tblPr/>
              <a:tblGrid>
                <a:gridCol w="2822400"/>
                <a:gridCol w="358632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ystals Dimen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aight Geome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 m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,4x24,4 m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arrel smallest back face crys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4360" y="1197000"/>
            <a:ext cx="180036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Boundary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Dimen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052640"/>
            <a:ext cx="42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Dimen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348000" y="4365720"/>
          <a:ext cx="28083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365720"/>
                    <a:ext cx="28083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4000" y="5373720"/>
            <a:ext cx="446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700280"/>
            <a:ext cx="583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Straight Geometry: </a:t>
            </a:r>
            <a:r>
              <a:rPr b="1" lang="de-DE" sz="2100" spc="-1" strike="noStrike">
                <a:solidFill>
                  <a:srgbClr val="000000"/>
                </a:solidFill>
                <a:latin typeface="Verdana"/>
              </a:rPr>
              <a:t>0,6284 st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6C3-A122-4764-BAE6-76DE489FBE1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11920" y="2637000"/>
            <a:ext cx="30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cc"/>
                </a:solidFill>
                <a:latin typeface="Verdana"/>
              </a:rPr>
              <a:t>2.– Ge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8DA-25B1-42B4-A263-CE77E1BF4D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700280"/>
            <a:ext cx="57610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tance from target to crystal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94 m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560 mm free sp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 angle of the barrel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9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mum outer angle crystal BW endcap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2,246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3284640"/>
            <a:ext cx="2089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is a maximum gap of 6,754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, we would need to shift the BW endcap forwards, leaving a free space of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28,7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052640"/>
            <a:ext cx="489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Distance to the target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627280" y="3435480"/>
          <a:ext cx="376092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435480"/>
                    <a:ext cx="3760920" cy="2836800"/>
                  </a:xfrm>
                  <a:prstGeom prst="rect">
                    <a:avLst/>
                  </a:prstGeom>
                  <a:ln w="1908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164360" y="1197000"/>
            <a:ext cx="19796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cc"/>
                </a:solidFill>
                <a:latin typeface="Verdana"/>
              </a:rPr>
              <a:t>Distance to the target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ner Rad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Beam Cone A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Wedge Hollow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edge Hollow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ipe Fl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662-A988-49A5-878C-9ACF3AD728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700280"/>
            <a:ext cx="576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0% closer to the target; cr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ystals 5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free distanc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20 m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ximum angle outer crystal BW endcap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4,0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052640"/>
            <a:ext cx="489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Distance to the target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1197000"/>
            <a:ext cx="19796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cc"/>
                </a:solidFill>
                <a:latin typeface="Verdana"/>
              </a:rPr>
              <a:t>Distance to the target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ner Rad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Beam Cone A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Wedge Hollow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edge Hollow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ipe Fl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2924280"/>
          <a:ext cx="439092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4390920" cy="3281400"/>
                  </a:xfrm>
                  <a:prstGeom prst="rect">
                    <a:avLst/>
                  </a:prstGeom>
                  <a:ln w="1908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C2D-4DDD-4255-B726-FE103780B0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052640"/>
            <a:ext cx="42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Inner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6560" y="1773360"/>
            <a:ext cx="2449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773360"/>
            <a:ext cx="626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0% less free space (beam pipe-crystals) of Inner Radius,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12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4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rystals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6560" y="3213000"/>
          <a:ext cx="28148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213000"/>
                    <a:ext cx="28148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780000" y="3357720"/>
          <a:ext cx="2665080" cy="25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357720"/>
                    <a:ext cx="266508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7164360" y="1197000"/>
            <a:ext cx="19796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Inner Rad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Beam Cone A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Wedge Hollow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edge Hollow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ipe Fl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063-1B49-4429-99D0-BD5ACFE438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74680"/>
            <a:ext cx="6049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Verdana"/>
              </a:rPr>
              <a:t>Backward Endcap EMC</a:t>
            </a:r>
            <a:endParaRPr b="0" i="1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1197000"/>
            <a:ext cx="0" cy="46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052640"/>
            <a:ext cx="42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</a:rPr>
              <a:t>Beam Con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" y="1484280"/>
            <a:ext cx="38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gle trumpet: 15,85º &gt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5,08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0% sma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1640" y="2421000"/>
          <a:ext cx="482436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21000"/>
                    <a:ext cx="4824360" cy="3558960"/>
                  </a:xfrm>
                  <a:prstGeom prst="rect">
                    <a:avLst/>
                  </a:prstGeom>
                  <a:ln w="1260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7164360" y="1197000"/>
            <a:ext cx="19796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1.–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cc"/>
                </a:solidFill>
                <a:latin typeface="Verdana"/>
              </a:rPr>
              <a:t>2.–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stance to the target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Inner Rad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cc"/>
                </a:solidFill>
                <a:latin typeface="Verdana"/>
              </a:rPr>
              <a:t>- Beam Cone A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- Wedge Hollow (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edge Hollow (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ipe Fl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3.-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Rodríguez Piñeiro - GSI Darmstadt -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16C-A4C6-4F90-9B6C-7667281904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3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12:45:43Z</dcterms:created>
  <dc:creator>Bernd Lewandowski</dc:creator>
  <dc:description/>
  <dc:language>en-US</dc:language>
  <cp:lastModifiedBy>drodrig</cp:lastModifiedBy>
  <dcterms:modified xsi:type="dcterms:W3CDTF">2009-04-06T09:42:19Z</dcterms:modified>
  <cp:revision>227</cp:revision>
  <dc:subject/>
  <dc:title>PANDA Infra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62848887</vt:r8>
  </property>
  <property fmtid="{D5CDD505-2E9C-101B-9397-08002B2CF9AE}" pid="3" name="_AuthorEmail">
    <vt:lpwstr>D.RodriguezPineiro@gsi.de</vt:lpwstr>
  </property>
  <property fmtid="{D5CDD505-2E9C-101B-9397-08002B2CF9AE}" pid="4" name="_AuthorEmailDisplayName">
    <vt:lpwstr>Rodriguez Pineiro, David</vt:lpwstr>
  </property>
  <property fmtid="{D5CDD505-2E9C-101B-9397-08002B2CF9AE}" pid="5" name="_EmailSubject">
    <vt:lpwstr>HELP!</vt:lpwstr>
  </property>
</Properties>
</file>