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421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6AE-C73F-41AB-9015-25AA09A4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D33-235B-4610-BFC5-F00FAFC2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1F8-63F3-4DD1-82F0-EC44A1B0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304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92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304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480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B6A-0951-4028-B0D6-041190F3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8D7-254B-4CF9-A07C-40A4FA75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304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92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304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480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181-37AF-4168-A91F-FDBA785E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20E-3478-4B35-AFCE-B0E988A8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194-96BF-4BB2-B6B5-FCCE1459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B49-EC4E-4AAA-B9AF-B556D98F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1E7-395E-41E1-B536-42CCF92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6FA-7437-4C34-B5F1-83C5E45B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79E-DF1E-49A1-9602-C3CEC59A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65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771280" y="6453000"/>
            <a:ext cx="5472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388000" y="6453000"/>
            <a:ext cx="57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B465-DDDD-42EA-BA66-9779F2B95F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 flipH="1">
            <a:off x="0" y="6308640"/>
            <a:ext cx="9144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&#9;kopf7.jpg                                                      0000978B_x0007_Mac HD3                        B5814388:"/>
          <p:cNvPicPr/>
          <p:nvPr/>
        </p:nvPicPr>
        <p:blipFill>
          <a:blip r:embed="rId2"/>
          <a:stretch/>
        </p:blipFill>
        <p:spPr>
          <a:xfrm>
            <a:off x="0" y="0"/>
            <a:ext cx="9144000" cy="118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20840" y="2746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C BW Endcap Proto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0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17928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133360" y="404640"/>
            <a:ext cx="64767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" name="Picture 10" descr="&#9;kopf7.jpg                                                      0000978B_x0007_Mac HD3                        B5814388:"/>
          <p:cNvPicPr/>
          <p:nvPr/>
        </p:nvPicPr>
        <p:blipFill>
          <a:blip r:embed="rId2"/>
          <a:stretch/>
        </p:blipFill>
        <p:spPr>
          <a:xfrm>
            <a:off x="0" y="0"/>
            <a:ext cx="9144000" cy="118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&#13;fair-mesh.jpg                                                  0022FE83_x0003_OSX                            BBA748FD:"/>
          <p:cNvPicPr/>
          <p:nvPr/>
        </p:nvPicPr>
        <p:blipFill>
          <a:blip r:embed="rId3">
            <a:grayscl/>
            <a:lum bright="2000"/>
          </a:blip>
          <a:stretch/>
        </p:blipFill>
        <p:spPr>
          <a:xfrm>
            <a:off x="539640" y="1628640"/>
            <a:ext cx="8134560" cy="4988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ANDA Collaboration Mee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410920" y="2420640"/>
            <a:ext cx="648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800000"/>
                </a:solidFill>
                <a:latin typeface="Verdana"/>
              </a:rPr>
              <a:t>Y. Ma</a:t>
            </a:r>
            <a:br>
              <a:rPr sz="2300"/>
            </a:br>
            <a:r>
              <a:rPr b="0" lang="en-GB" sz="2300" spc="-1" strike="noStrike">
                <a:solidFill>
                  <a:srgbClr val="800000"/>
                </a:solidFill>
                <a:latin typeface="Verdana"/>
              </a:rPr>
              <a:t>D. Rodríguez Piñeiro</a:t>
            </a:r>
            <a:br>
              <a:rPr sz="2300"/>
            </a:br>
            <a:r>
              <a:rPr b="0" lang="en-GB" sz="2300" spc="-1" strike="noStrike">
                <a:solidFill>
                  <a:srgbClr val="800000"/>
                </a:solidFill>
                <a:latin typeface="Verdana"/>
              </a:rPr>
              <a:t>J. Sánchez Rosado</a:t>
            </a:r>
            <a:br>
              <a:rPr sz="2300"/>
            </a:br>
            <a:r>
              <a:rPr b="0" lang="en-GB" sz="2300" spc="-1" strike="noStrike">
                <a:solidFill>
                  <a:srgbClr val="800000"/>
                </a:solidFill>
                <a:latin typeface="Verdana"/>
              </a:rPr>
              <a:t>G. Tejerina Álvarez</a:t>
            </a:r>
            <a:br>
              <a:rPr sz="2300"/>
            </a:br>
            <a:r>
              <a:rPr b="0" lang="en-GB" sz="2300" spc="-1" strike="noStrike">
                <a:solidFill>
                  <a:srgbClr val="800000"/>
                </a:solidFill>
                <a:latin typeface="Verdana"/>
              </a:rPr>
              <a:t>I. Zimmermann</a:t>
            </a:r>
            <a:br>
              <a:rPr sz="2300"/>
            </a:br>
            <a:r>
              <a:rPr b="1" lang="en-GB" sz="2300" spc="-1" strike="noStrike">
                <a:solidFill>
                  <a:srgbClr val="800000"/>
                </a:solidFill>
                <a:latin typeface="Verdana"/>
              </a:rPr>
              <a:t>HIM/GSI/Mainz University</a:t>
            </a:r>
            <a:br>
              <a:rPr sz="2300"/>
            </a:br>
            <a:br>
              <a:rPr sz="2300"/>
            </a:br>
            <a:r>
              <a:rPr b="0" lang="en-GB" sz="2300" spc="-1" strike="noStrike">
                <a:solidFill>
                  <a:srgbClr val="800000"/>
                </a:solidFill>
                <a:latin typeface="Verdana"/>
              </a:rPr>
              <a:t>PANDA Collaboration Meeting</a:t>
            </a:r>
            <a:br>
              <a:rPr sz="2300"/>
            </a:br>
            <a:r>
              <a:rPr b="0" lang="en-GB" sz="2300" spc="-1" strike="noStrike">
                <a:solidFill>
                  <a:srgbClr val="800000"/>
                </a:solidFill>
                <a:latin typeface="Verdana"/>
              </a:rPr>
              <a:t>KVI</a:t>
            </a:r>
            <a:br>
              <a:rPr sz="2300"/>
            </a:br>
            <a:br>
              <a:rPr sz="2300"/>
            </a:br>
            <a:r>
              <a:rPr b="1" lang="en-GB" sz="2300" spc="-1" strike="noStrike">
                <a:solidFill>
                  <a:srgbClr val="800000"/>
                </a:solidFill>
                <a:latin typeface="Verdana"/>
              </a:rPr>
              <a:t>31. 08. 2010</a:t>
            </a:r>
            <a:endParaRPr b="1" i="1" lang="en-US" sz="23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466560" y="1341360"/>
            <a:ext cx="817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Verdana"/>
              </a:rPr>
              <a:t>BW Endcap of EMC Prototyp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3240000" cy="243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788000" y="2031840"/>
            <a:ext cx="3529080" cy="2295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4581360"/>
            <a:ext cx="37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ystals in the Middle: Thermal Load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=0,35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4508640"/>
            <a:ext cx="37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ystals in the Border: Thermal Load Front/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=1,08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134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ystals Wrapped wit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00 µm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9400" y="5805360"/>
            <a:ext cx="64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hysics Simulation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with Copper Will Be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A91-4FDD-4CAD-99CD-B97A7093708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76000" y="2565360"/>
            <a:ext cx="6335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3.– Supporting Par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6056280" y="51642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B76-8F6E-4B0F-AC88-DBC8FC7BEEB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0" b="4261"/>
          <a:stretch/>
        </p:blipFill>
        <p:spPr>
          <a:xfrm>
            <a:off x="2916360" y="3659040"/>
            <a:ext cx="2651040" cy="2606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56280" y="51642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1413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pecial Supporting Pieces, “fe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2781360"/>
            <a:ext cx="2520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 Str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ops Heat         Con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ows Shrinking Dis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527120"/>
            <a:ext cx="3529080" cy="3486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33840" y="5229360"/>
            <a:ext cx="302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ign Following Bar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ifferen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rran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240-3330-47C6-BD13-7C3DE83A314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5800" cy="3570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35280" y="1413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ploded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4365720"/>
            <a:ext cx="439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de Out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 Magnetic Stainless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ass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fl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C6F-5242-44C0-9E99-465D713619B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456000" cy="317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961080" cy="3127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3419640" y="1341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ainless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5264280"/>
            <a:ext cx="42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000" y="5253120"/>
            <a:ext cx="44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uctural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4640" y="5656320"/>
            <a:ext cx="36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fety Factor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&gt;2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arding the Elastic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566100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0,00008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77C-27DF-480E-BDC4-73D529B5417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960720" cy="2952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816360" cy="2954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3564000" y="1341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lass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5192640"/>
            <a:ext cx="42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5181480"/>
            <a:ext cx="44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uctural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566100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0,000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4640" y="5656320"/>
            <a:ext cx="36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fety Factor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&gt;12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arding the Elastic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A9A-2BCD-4724-B2D0-7A2E53394A5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6920" y="2073240"/>
            <a:ext cx="3305520" cy="28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292720" y="2073240"/>
            <a:ext cx="3624120" cy="3156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00720" y="5240160"/>
            <a:ext cx="42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8000" y="5229360"/>
            <a:ext cx="44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uctural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126828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luminium Insert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Fully Loa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558972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fety Factor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&gt;10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arding the Elastic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566100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0,008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37A-505D-4E4C-B987-76240A3F684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476000" y="2565360"/>
            <a:ext cx="6335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5.- 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056280" y="51642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AC8-4458-4324-A9A8-E7CE3E4378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9640" y="1268280"/>
            <a:ext cx="35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2133720"/>
            <a:ext cx="785052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Steps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6 Crystals - Full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oal: 16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ystals Equi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tai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ll Be Checked (Specially in the Fro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in Desig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Prototyp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cking Different Solutions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oling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Copp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4720" y="134136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C57-E3BA-40D0-826D-EFC7EC4C6A3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16000" y="1844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66920" y="3573360"/>
            <a:ext cx="597708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Verdana"/>
              </a:rPr>
              <a:t>Personal 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.rodriguezpineiro@</a:t>
            </a:r>
            <a:r>
              <a:rPr b="0" lang="en-GB" sz="2000" spc="-1" strike="noStrike">
                <a:solidFill>
                  <a:srgbClr val="800000"/>
                </a:solidFill>
                <a:latin typeface="Verdana"/>
              </a:rPr>
              <a:t>gs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l: +49 (0) 615971/16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-panda.</a:t>
            </a:r>
            <a:r>
              <a:rPr b="0" lang="en-GB" sz="2000" spc="-1" strike="noStrike">
                <a:solidFill>
                  <a:srgbClr val="800000"/>
                </a:solidFill>
                <a:latin typeface="Verdana"/>
              </a:rPr>
              <a:t>gs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745-B29C-4AAD-B97E-1A86A04F357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42560" y="1844280"/>
            <a:ext cx="5545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1.– Prototype Set-U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2.– Thermal Studies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3.– Supporting P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444-8FFA-4A5E-9281-A7ECC43306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7280" y="2565360"/>
            <a:ext cx="63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1.– Prototype Set-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056280" y="51642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B37-0A48-4DB1-82A8-976819BBA0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56280" y="51642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340000" y="4581000"/>
            <a:ext cx="374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Crystal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6 Fully Equipp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1268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ototype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1916280"/>
            <a:ext cx="849816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est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rystal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with BW Endcap Geome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Get Real Feeling of the BW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Building 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Due the Tight Space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Low Energy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f the Detector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Checking: Insulator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(Vacuum Panels),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ooling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(Front)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Supporting Part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(Alveoles, Mounting Plate, Feet…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Many Others (Optic Fibres, Geometries, Construction Details…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805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Step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6 Crystals Subunit – Full Arran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D15-03AE-4442-A65F-3166CB7AC0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33520" y="1268280"/>
            <a:ext cx="6505560" cy="381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1042920" y="2231640"/>
            <a:ext cx="1239840" cy="6922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340000" y="3068280"/>
            <a:ext cx="1216080" cy="431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27480" y="3324240"/>
            <a:ext cx="712800" cy="4507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1960" y="3573360"/>
            <a:ext cx="158760" cy="9763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4680" y="1878120"/>
            <a:ext cx="782640" cy="11016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624280" y="2021040"/>
            <a:ext cx="88920" cy="12380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00400" y="2522520"/>
            <a:ext cx="539640" cy="782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461280" y="3052800"/>
            <a:ext cx="976320" cy="6573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997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CF Alve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03200" y="358308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Al In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43040" y="3903840"/>
            <a:ext cx="13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Preamps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2920" y="454644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Preampl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14640" y="1332000"/>
            <a:ext cx="13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Positioning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4520" y="1717560"/>
            <a:ext cx="13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Caps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73760" y="2232000"/>
            <a:ext cx="13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AP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8160" y="2682720"/>
            <a:ext cx="13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Crys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8000" y="4292640"/>
            <a:ext cx="2663640" cy="1968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43280" y="5157720"/>
            <a:ext cx="630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First Step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ests at Room Temperature (Strength Test, APDs, Optic Fiber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so Cooling Down the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E55-86E4-4B64-B71A-5179922B44D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3917880" cy="383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1943280"/>
            <a:ext cx="2089440" cy="2062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11280" y="4245120"/>
            <a:ext cx="2090520" cy="2062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03640" y="2205000"/>
            <a:ext cx="1512720" cy="5907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2852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Crystals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546600" y="3357720"/>
            <a:ext cx="1120680" cy="8506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516360" y="4149720"/>
            <a:ext cx="1150920" cy="2300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516720" y="4667400"/>
            <a:ext cx="1224000" cy="2016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3716280"/>
            <a:ext cx="2727360" cy="4078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3716280"/>
            <a:ext cx="2664000" cy="13413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19162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494172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Optic Fi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86560" y="378936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16 Equipped Crys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342900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4 Remaining Crys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80000" y="4076280"/>
            <a:ext cx="71280" cy="647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486900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Mounting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240" y="128916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cond Step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ll Arran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313-76AC-49D0-955A-0569C011555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2933640" cy="2878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2934000" cy="287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5219640" y="2217600"/>
            <a:ext cx="746280" cy="3477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9640" y="2560320"/>
            <a:ext cx="473040" cy="46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46560" y="3076560"/>
            <a:ext cx="835200" cy="7128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65300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Vacuum Gau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134136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Vacuum Pa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2349360"/>
            <a:ext cx="1618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800000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/Vacuum P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458136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Mounting Plat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43280" y="1700280"/>
            <a:ext cx="1512720" cy="5763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1628640"/>
            <a:ext cx="1295640" cy="287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116000" y="4221000"/>
            <a:ext cx="142920" cy="5032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116000" y="4323960"/>
            <a:ext cx="922320" cy="3999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092720" y="3789000"/>
            <a:ext cx="501480" cy="863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357336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Supporting F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3789360"/>
            <a:ext cx="880920" cy="396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6560" y="537372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cale Construction 1: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 Real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ee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ol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(Resistors Simulating the Preamplifiers Heat will Be Plac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91320" y="4124160"/>
            <a:ext cx="666720" cy="6955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450864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Vermiculite Granu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4437000"/>
            <a:ext cx="16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Verdana"/>
              </a:rPr>
              <a:t>Temperature Humidity Sen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010-C3D9-4035-A50F-2E6CDBF292B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76000" y="2565360"/>
            <a:ext cx="6335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2.– Thermal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6056280" y="51642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16E-32C6-4B4C-9163-FCE0DE72DC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56280" y="51642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597120" cy="3241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392360" cy="2890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5149800"/>
            <a:ext cx="37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ystals in the Middle: Thermal Load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=1,41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5078520"/>
            <a:ext cx="37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ystals in the Border: Thermal Load Front/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=6,42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382760" cy="1382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956120" y="1258920"/>
            <a:ext cx="1382760" cy="1382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01880" y="1419120"/>
            <a:ext cx="87120" cy="87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3000" y="1495440"/>
            <a:ext cx="87120" cy="93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M - XXXIV PANDA Collaboration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652-5409-46B2-AB51-43CE1789E0E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/08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12:45:43Z</dcterms:created>
  <dc:creator>Bernd Lewandowski</dc:creator>
  <dc:description/>
  <dc:language>en-US</dc:language>
  <cp:lastModifiedBy>drodrig</cp:lastModifiedBy>
  <dcterms:modified xsi:type="dcterms:W3CDTF">2010-08-31T11:27:24Z</dcterms:modified>
  <cp:revision>376</cp:revision>
  <dc:subject/>
  <dc:title>PANDA Infra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90621296</vt:r8>
  </property>
  <property fmtid="{D5CDD505-2E9C-101B-9397-08002B2CF9AE}" pid="3" name="_AuthorEmail">
    <vt:lpwstr>D.RodriguezPineiro@gsi.de</vt:lpwstr>
  </property>
  <property fmtid="{D5CDD505-2E9C-101B-9397-08002B2CF9AE}" pid="4" name="_AuthorEmailDisplayName">
    <vt:lpwstr>Rodriguez Pineiro, David</vt:lpwstr>
  </property>
  <property fmtid="{D5CDD505-2E9C-101B-9397-08002B2CF9AE}" pid="5" name="_EmailSubject">
    <vt:lpwstr>HELP!</vt:lpwstr>
  </property>
</Properties>
</file>